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7" name="PlaceHolder 1"/>
          <p:cNvSpPr>
            <a:spLocks noGrp="1"/>
          </p:cNvSpPr>
          <p:nvPr>
            <p:ph type="hdr"/>
          </p:nvPr>
        </p:nvSpPr>
        <p:spPr>
          <a:xfrm>
            <a:off x="-360" y="-360"/>
            <a:ext cx="42750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8" name="PlaceHolder 2"/>
          <p:cNvSpPr>
            <a:spLocks noGrp="1"/>
          </p:cNvSpPr>
          <p:nvPr>
            <p:ph type="dt" idx="128"/>
          </p:nvPr>
        </p:nvSpPr>
        <p:spPr>
          <a:xfrm>
            <a:off x="558792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9" name="PlaceHolder 3"/>
          <p:cNvSpPr>
            <a:spLocks noGrp="1"/>
          </p:cNvSpPr>
          <p:nvPr>
            <p:ph type="sldImg"/>
          </p:nvPr>
        </p:nvSpPr>
        <p:spPr>
          <a:xfrm>
            <a:off x="3249360" y="504720"/>
            <a:ext cx="3367080" cy="2525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50" name="PlaceHolder 4"/>
          <p:cNvSpPr>
            <a:spLocks noGrp="1"/>
          </p:cNvSpPr>
          <p:nvPr>
            <p:ph type="body"/>
          </p:nvPr>
        </p:nvSpPr>
        <p:spPr>
          <a:xfrm>
            <a:off x="987120" y="3198960"/>
            <a:ext cx="789300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51" name="PlaceHolder 5"/>
          <p:cNvSpPr>
            <a:spLocks noGrp="1"/>
          </p:cNvSpPr>
          <p:nvPr>
            <p:ph type="ftr" idx="129"/>
          </p:nvPr>
        </p:nvSpPr>
        <p:spPr>
          <a:xfrm>
            <a:off x="-360" y="6397200"/>
            <a:ext cx="42750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52" name="PlaceHolder 6"/>
          <p:cNvSpPr>
            <a:spLocks noGrp="1"/>
          </p:cNvSpPr>
          <p:nvPr>
            <p:ph type="sldNum" idx="130"/>
          </p:nvPr>
        </p:nvSpPr>
        <p:spPr>
          <a:xfrm>
            <a:off x="5587920" y="6397200"/>
            <a:ext cx="4276800" cy="336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7ABA-E802-4A23-9FA2-4DC21B5AD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3249720" y="504720"/>
            <a:ext cx="3367080" cy="2525760"/>
          </a:xfrm>
          <a:prstGeom prst="rect">
            <a:avLst/>
          </a:prstGeom>
          <a:ln w="0">
            <a:noFill/>
          </a:ln>
        </p:spPr>
      </p:sp>
      <p:sp>
        <p:nvSpPr>
          <p:cNvPr id="2080"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1"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88DE-7C68-4065-AB9A-6BD91289B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3249720" y="504720"/>
            <a:ext cx="3367080" cy="2525760"/>
          </a:xfrm>
          <a:prstGeom prst="rect">
            <a:avLst/>
          </a:prstGeom>
          <a:ln w="0">
            <a:noFill/>
          </a:ln>
        </p:spPr>
      </p:sp>
      <p:sp>
        <p:nvSpPr>
          <p:cNvPr id="2107"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rocess speeches require you to carefully delineate the steps and the order in which they occur. The steps typically become the main points, and concrete explanations of each step become the subpoints. Most process speeches rely heavily on the demonstration method of informing.</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pository speeches require that the speaker use an extensive research base for preparing the presentation, choose an organizational pattern that helps the audience understand the material being discussed, and use a variety of informative methods (e.g., descriptions, definitions, comparisons and contrasts, narration, demonstrations) to sustain the audience’s attention and comprehension of the material present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8"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CBF7-5C06-4308-8E0A-53B2E57EE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3249720" y="504720"/>
            <a:ext cx="3367080" cy="2525760"/>
          </a:xfrm>
          <a:prstGeom prst="rect">
            <a:avLst/>
          </a:prstGeom>
          <a:ln w="0">
            <a:noFill/>
          </a:ln>
        </p:spPr>
      </p:sp>
      <p:sp>
        <p:nvSpPr>
          <p:cNvPr id="2083"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4"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2678-5054-4115-8E90-240EF4D9B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sldImg"/>
          </p:nvPr>
        </p:nvSpPr>
        <p:spPr>
          <a:xfrm>
            <a:off x="3249720" y="504720"/>
            <a:ext cx="3367080" cy="2525760"/>
          </a:xfrm>
          <a:prstGeom prst="rect">
            <a:avLst/>
          </a:prstGeom>
          <a:ln w="0">
            <a:noFill/>
          </a:ln>
        </p:spPr>
      </p:sp>
      <p:sp>
        <p:nvSpPr>
          <p:cNvPr id="2086"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ve speeches answer questions about a topic, such as who, when, what, where, why, how to, and how does. Informative speaking differs from other speech forms (such as speaking to persuade, to entertain, or to celebrate) in that your goal is simply to achieve mutual understanding about an object, person, place, process, event, idea, concept, or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7"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B3DE-FFB9-4D63-A8EE-5B8CA08A0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3249720" y="504720"/>
            <a:ext cx="3367080" cy="2525760"/>
          </a:xfrm>
          <a:prstGeom prst="rect">
            <a:avLst/>
          </a:prstGeom>
          <a:ln w="0">
            <a:noFill/>
          </a:ln>
        </p:spPr>
      </p:sp>
      <p:sp>
        <p:nvSpPr>
          <p:cNvPr id="2089"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udience will perceive information to be </a:t>
            </a:r>
            <a:r>
              <a:rPr b="0" i="1" lang="en-US" sz="1200" spc="-1" strike="noStrike">
                <a:solidFill>
                  <a:srgbClr val="000000"/>
                </a:solidFill>
                <a:latin typeface="Arial"/>
              </a:rPr>
              <a:t>intellectually stimulating</a:t>
            </a:r>
            <a:r>
              <a:rPr b="0" lang="en-US" sz="1200" spc="-1" strike="noStrike">
                <a:solidFill>
                  <a:srgbClr val="000000"/>
                </a:solidFill>
                <a:latin typeface="Arial"/>
              </a:rPr>
              <a:t> when it is new to them and when it is explained in a way that piques their curiosity and excites their interes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orporate </a:t>
            </a:r>
            <a:r>
              <a:rPr b="0" i="1" lang="en-US" sz="1200" spc="-1" strike="noStrike">
                <a:solidFill>
                  <a:srgbClr val="000000"/>
                </a:solidFill>
                <a:latin typeface="Arial"/>
              </a:rPr>
              <a:t>listener-relevance links</a:t>
            </a:r>
            <a:r>
              <a:rPr b="0" lang="en-US" sz="1200" spc="-1" strike="noStrike">
                <a:solidFill>
                  <a:srgbClr val="000000"/>
                </a:solidFill>
                <a:latin typeface="Arial"/>
              </a:rPr>
              <a:t>—statements that clarify how a particular point may be important to a listener—throughout the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udience will perceive your information to be </a:t>
            </a:r>
            <a:r>
              <a:rPr b="0" i="1" lang="en-US" sz="1200" spc="-1" strike="noStrike">
                <a:solidFill>
                  <a:srgbClr val="000000"/>
                </a:solidFill>
                <a:latin typeface="Arial"/>
              </a:rPr>
              <a:t>creative</a:t>
            </a:r>
            <a:r>
              <a:rPr b="0" lang="en-US" sz="1200" spc="-1" strike="noStrike">
                <a:solidFill>
                  <a:srgbClr val="000000"/>
                </a:solidFill>
                <a:latin typeface="Arial"/>
              </a:rPr>
              <a:t> when it yields innovative ideas. Creative informative speeches begin with good research.</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peech is really informative, your audience will hear a lot of new information but will need your help in remembering what is most important. Effective informative speeches emphasize the specific goal, main ideas, and key facts in ways that help audience members remembe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0"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BCCC-2274-41D5-A3C1-89CCB4E27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AD2D-DAE1-4F2F-87FE-B790B4BAE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2" name="PlaceHolder 1"/>
          <p:cNvSpPr>
            <a:spLocks noGrp="1"/>
          </p:cNvSpPr>
          <p:nvPr>
            <p:ph type="sldImg"/>
          </p:nvPr>
        </p:nvSpPr>
        <p:spPr>
          <a:xfrm>
            <a:off x="3249720" y="504720"/>
            <a:ext cx="3367080" cy="2525760"/>
          </a:xfrm>
          <a:prstGeom prst="rect">
            <a:avLst/>
          </a:prstGeom>
          <a:ln w="0">
            <a:noFill/>
          </a:ln>
        </p:spPr>
      </p:sp>
      <p:sp>
        <p:nvSpPr>
          <p:cNvPr id="2093"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picted in the exhibit a “referent” is the </a:t>
            </a:r>
            <a:r>
              <a:rPr b="0" i="1" lang="en-US" sz="1200" spc="-1" strike="noStrike">
                <a:solidFill>
                  <a:srgbClr val="000000"/>
                </a:solidFill>
                <a:latin typeface="Arial"/>
              </a:rPr>
              <a:t>thing</a:t>
            </a:r>
            <a:r>
              <a:rPr b="0" lang="en-US" sz="1200" spc="-1" strike="noStrike">
                <a:solidFill>
                  <a:srgbClr val="000000"/>
                </a:solidFill>
                <a:latin typeface="Arial"/>
              </a:rPr>
              <a:t> or object we refer to with a word, which is the “symbol” we use to refer to it. Our audience then attaches meaning to that symbol, which is labeled the “thought of refer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3249720" y="504720"/>
            <a:ext cx="3367080" cy="2525760"/>
          </a:xfrm>
          <a:prstGeom prst="rect">
            <a:avLst/>
          </a:prstGeom>
          <a:ln w="0">
            <a:noFill/>
          </a:ln>
        </p:spPr>
      </p:sp>
      <p:sp>
        <p:nvSpPr>
          <p:cNvPr id="2095"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members of your audience differ in how they prefer to learn, effective informative speeches are developed in ways that address diverse learning styl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ing the cycle ensures that you address the diverse learning styles of your audience and make the speech understandable, meaningful, and memorable for all. To help you round the cycle, you might even make note of where and how you address each dimension in your speech outline.</a:t>
            </a:r>
            <a:endParaRPr b="0" lang="en-US" sz="1200" spc="-1" strike="noStrike">
              <a:solidFill>
                <a:srgbClr val="000000"/>
              </a:solidFill>
              <a:latin typeface="Arial"/>
            </a:endParaRPr>
          </a:p>
        </p:txBody>
      </p:sp>
      <p:sp>
        <p:nvSpPr>
          <p:cNvPr id="2096"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1EB3-8A3D-43D3-9D00-8462E2926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sldImg"/>
          </p:nvPr>
        </p:nvSpPr>
        <p:spPr>
          <a:xfrm>
            <a:off x="3249720" y="504720"/>
            <a:ext cx="3367080" cy="2525760"/>
          </a:xfrm>
          <a:prstGeom prst="rect">
            <a:avLst/>
          </a:prstGeom>
          <a:ln w="0">
            <a:noFill/>
          </a:ln>
        </p:spPr>
      </p:sp>
      <p:sp>
        <p:nvSpPr>
          <p:cNvPr id="209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ity is the ability to sound natural as you speak—as though you are really thinking about the ideas </a:t>
            </a:r>
            <a:r>
              <a:rPr b="0" i="1" lang="en-US" sz="1200" spc="-1" strike="noStrike">
                <a:solidFill>
                  <a:srgbClr val="000000"/>
                </a:solidFill>
                <a:latin typeface="Arial"/>
              </a:rPr>
              <a:t>and</a:t>
            </a:r>
            <a:r>
              <a:rPr b="0" lang="en-US" sz="1200" spc="-1" strike="noStrike">
                <a:solidFill>
                  <a:srgbClr val="000000"/>
                </a:solidFill>
                <a:latin typeface="Arial"/>
              </a:rPr>
              <a:t> getting them across to the audience as you speak. The secret to developing a conversational style is to learn the </a:t>
            </a:r>
            <a:r>
              <a:rPr b="0" i="1" lang="en-US" sz="1200" spc="-1" strike="noStrike">
                <a:solidFill>
                  <a:srgbClr val="000000"/>
                </a:solidFill>
                <a:latin typeface="Arial"/>
              </a:rPr>
              <a:t>ideas</a:t>
            </a:r>
            <a:r>
              <a:rPr b="0" lang="en-US" sz="1200" spc="-1" strike="noStrike">
                <a:solidFill>
                  <a:srgbClr val="000000"/>
                </a:solidFill>
                <a:latin typeface="Arial"/>
              </a:rPr>
              <a:t> of your speech rather than trying to memorize every </a:t>
            </a:r>
            <a:r>
              <a:rPr b="0" i="1" lang="en-US" sz="1200" spc="-1" strike="noStrike">
                <a:solidFill>
                  <a:srgbClr val="000000"/>
                </a:solidFill>
                <a:latin typeface="Arial"/>
              </a:rPr>
              <a:t>word</a:t>
            </a: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be conversational and animated at the same time by focusing on conveying the passion you feel about your topic through your voice and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9"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E139-D67F-4E81-B800-5A198963F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3249720" y="504720"/>
            <a:ext cx="3367080" cy="2525760"/>
          </a:xfrm>
          <a:prstGeom prst="rect">
            <a:avLst/>
          </a:prstGeom>
          <a:ln w="0">
            <a:noFill/>
          </a:ln>
        </p:spPr>
      </p:sp>
      <p:sp>
        <p:nvSpPr>
          <p:cNvPr id="210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cription</a:t>
            </a:r>
            <a:r>
              <a:rPr b="0" lang="en-US" sz="1200" spc="-1" strike="noStrike">
                <a:solidFill>
                  <a:srgbClr val="000000"/>
                </a:solidFill>
                <a:latin typeface="Arial"/>
              </a:rPr>
              <a:t> is a method used to create an accurate, vivid, verbal picture of an object, geographic feature, setting, event, person, or image. This method usually answers an overarching “who,” “what,” or “where” question.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finition</a:t>
            </a:r>
            <a:r>
              <a:rPr b="0" lang="en-US" sz="1200" spc="-1" strike="noStrike">
                <a:solidFill>
                  <a:srgbClr val="000000"/>
                </a:solidFill>
                <a:latin typeface="Arial"/>
              </a:rPr>
              <a:t> is a method that explains the meaning of something. You can define a word or idea by classifying it and differentiating it from similar ideas; by explaining its derivation or history; by explaining its use or function; or by using a familiar synonym or antonym.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arison and contrast</a:t>
            </a:r>
            <a:r>
              <a:rPr b="0" lang="en-US" sz="1200" spc="-1" strike="noStrike">
                <a:solidFill>
                  <a:srgbClr val="000000"/>
                </a:solidFill>
                <a:latin typeface="Arial"/>
              </a:rPr>
              <a:t> is a method of informing that focuses on how something is similar to and different from other thing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rration</a:t>
            </a:r>
            <a:r>
              <a:rPr b="0" lang="en-US" sz="1200" spc="-1" strike="noStrike">
                <a:solidFill>
                  <a:srgbClr val="000000"/>
                </a:solidFill>
                <a:latin typeface="Arial"/>
              </a:rPr>
              <a:t> is a method of informing that recounts an autobiographical or biographical event, a myth, a story, or some other account. Characteristics of a good narration include a strong story line; use of descriptive language and details that enhance the plot, people, setting, and events; effective use of dialogue; pacing that builds suspense; and a strong voic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monstration</a:t>
            </a:r>
            <a:r>
              <a:rPr b="0" lang="en-US" sz="1200" spc="-1" strike="noStrike">
                <a:solidFill>
                  <a:srgbClr val="000000"/>
                </a:solidFill>
                <a:latin typeface="Arial"/>
              </a:rPr>
              <a:t> is a method of informing that shows how something is done, displays the stages of a process, or depicts how something works. In a demonstration, you organize the steps from first to last so that your audience will be able to remember the sequence.  Effective demonstrations require considerable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8CA6-B67B-4735-BAA5-BF30FB92B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3249720" y="504720"/>
            <a:ext cx="3367080" cy="2525760"/>
          </a:xfrm>
          <a:prstGeom prst="rect">
            <a:avLst/>
          </a:prstGeom>
          <a:ln w="0">
            <a:noFill/>
          </a:ln>
        </p:spPr>
      </p:sp>
      <p:sp>
        <p:nvSpPr>
          <p:cNvPr id="2104"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rocess speeches require you to carefully delineate the steps and the order in which they occur. The steps typically become the main points, and concrete explanations of each step become the subpoints. Most process speeches rely heavily on the demonstration method of informing.</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pository speeches require that the speaker use an extensive research base for preparing the presentation, choose an organizational pattern that helps the audience understand the material being discussed, and use a variety of informative methods (e.g., descriptions, definitions, comparisons and contrasts, narration, demonstrations) to sustain the audience’s attention and comprehension of the material present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5"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854C-9B88-444C-8865-89CF2CF9E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EE1C8-FF5F-41ED-A73E-52DAD8FD4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0875-0760-4DB2-8CF7-35877DA4B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840BD8-B372-444A-93D0-6E553BEA8B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9301E7-6DC1-4311-A213-39542C3FCD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9F3668-C202-4602-8F94-8E045C3455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B126D-A16A-4ADE-998F-151A40CFF4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E6C01C-1656-4378-BD6D-C0ECD8A567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A854BF-49A6-435E-AC70-3BD89B8CBF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6DA247-A268-4857-826B-6EE1D32CBE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19D694-F870-4922-B003-59F11B2A3D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D4507E-F5F5-4F5B-8D3A-1A1010F412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FBB13A-3404-4500-821D-DFBCD7F776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B653E-AB5C-4148-B92A-55AD7DA9E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A6466D-0974-4435-9601-1A6CD5CAA5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8888A9-72D5-43BF-86DF-00F962B8F2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01E6D1-0D4F-45D2-8F3B-0944E9043F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922E91-27C7-4678-AF6B-58316DCF18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037E0F-6C51-4950-AD4C-A05F192ECF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178D1D-DF38-4AA5-A385-EC9B1AB167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D258B4-1482-4F61-B704-683ADB800C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DC86AB-2670-49E7-9D05-46DD9F5D85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4695E2-A1BA-4452-9FA3-C6F8349BD1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79A0D6-BBE3-4CA2-A18F-F76A215E44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71776-0D6C-45F1-AE5E-DEBC02E3F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7FE6D5-E9D2-4D66-83EA-CDE8B81FA3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A4C7B9-12A3-4C29-B479-FED668E8346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E9EE79-0E84-4807-BB08-FB68C5FFB7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C5108D-F5B1-4B30-AA28-05DFBA8107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72DC58-A131-4246-82CD-F97BF2A4E5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44F073-DEA8-4A82-9BB2-9BE6094178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3095C6-E5AF-4C34-966F-C400823FFE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CE73DF-B69E-4962-BB99-7DC8535EBB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5A2FA7-8F9A-433B-BABD-E1FEDD80DF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4A3296-0E79-4825-BDB8-E934499907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A6430-A513-417B-89D8-E1AB61954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405B76-A378-4E77-90E4-5DAB740512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9534F8-7B7B-4520-8A38-5BB40C34B9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E93C54-C14A-4497-93B9-ABCE07A08D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C99D00-6EC1-4F71-A2C0-3467685895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307A3E-24C5-46D3-A386-833932EA97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EAC4D8-732D-49FB-A94F-B7C060D100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A41A02-A10B-48FD-A72B-979446C9A0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DFF3C1-5F21-4BBB-AFAD-0364F427D6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BB0A5C-7409-4CC2-A472-8F0484326B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B483C9-BDA2-4526-B559-E2C9E03ED3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1514F-96E7-4995-BF93-9AFCA1639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D0AC7E-9E43-497F-830F-6521BDA49C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047DCC-F921-4E6B-98B0-1B6CBC40F9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ABCD2B-A02B-492E-937B-B6D78CE59F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BEDBED-2C13-43CE-AB71-0894373522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B242C5-EB64-4130-8D06-289BC030AB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D65820-6A7F-4667-AD73-523EDF69D41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D3CF9C-C57F-42F8-A86F-FB282C3BC2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13D3CC-A99D-40D6-A07E-DEAC104A31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310E9C-6661-4022-B1B4-A9F23D2C7E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14DEE0-8B3E-4E5E-928B-4EA1D91FE3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3B05B-2DA4-455A-AD3F-4027FCD7D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F348DA-BAB7-4E43-A6BA-19ACFA358D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6536B9-0D6F-4867-941C-0A1C8319E2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604DF8-9F8A-4323-8A5E-3F9A9CF756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7EB033-DB71-449B-8AF2-3BFC2D4E42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84DDF7-7703-4C26-AF0F-892B11094B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D7BAEF-855B-4C35-84AA-6C1537DF3BD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957CA4-8BF2-4C0D-A3F7-07F32455CAF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D33677-030C-48E5-BB38-68E8E649AA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4E4507-4F0D-4226-BFAA-833E5D53E1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65FB8A-E17F-4F73-904A-18BB49C542D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B2C0E-1228-4135-AFEA-95AE3445C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0A796D-64EE-41D8-92D8-929592774E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9352A8-9122-4F17-8A28-0A5C558E4A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2D1C6F-6597-4B25-B966-5A1A9ACA55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7083B8-02EC-4AD4-A0D2-09EBD9C6E7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81AA3F-09D1-4C49-A2E5-07DB022A1D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4222CF-4AC4-46A4-A5FC-7F6527104B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84B98E-EAB0-4080-8E8B-F1EFD6E1A2A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4E3C67B-7947-4EA3-AD8D-78C4928207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1877395-A163-4CF0-929B-C7AA73CFFAE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266FD95-8FDD-4675-A8D0-25D1D0CA9D3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797B4-4886-4F43-A8A8-3364FBDCD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681BC6-E67C-4ABD-BD82-44BABB10236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41C4A8E-228E-49AC-8872-149A757244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80364B-6079-4357-B033-500AB684234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2C073B5-412A-427D-A60D-3620EEF621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AFBCF2-1EFD-4D84-B72F-95B8DA360E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41393E-E5B6-4209-AE1A-1CD5189922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34CDCE-8AB5-4078-BE1F-344B885D53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B7101F-73A7-4A7F-8F35-E557BE61CA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9C3C077-8EE1-425F-BE60-AE27AB9F71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6A9FBFB-731B-4969-BCF6-38363BA8634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C600A-F4D3-45A2-8E6F-1E492D2BC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0F3EBBF-FF14-4175-B953-63C894479D5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A921E8D-CDB7-4CFA-A7AF-1B955EDD74B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AFA73C-676B-4772-A90C-6FD2C79850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FFB429-C223-4649-9611-2C8FE431EA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B527DF-9C33-4DED-9077-AC5F00C1A8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AFDB2E-417D-421C-9E90-370929334BD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AF88B8-042C-4B31-9BC1-0CE9F414F60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039F5C-AF64-479E-85F4-5B503CE3F8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F3BDC9-750E-4D6D-A6AB-C968E6861E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A7269C-21E6-497A-837D-178F9EDD9CD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C0180-E35B-4F1E-A872-7A10E9630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DB00BC2-2AEE-4976-97F7-D0BD0B81D5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6E8C0CC-A6F1-4835-A7FD-4CC751ECC96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B25C9B3-E091-42DE-BE85-EF135AE6643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7819C2B-C26D-4C36-AA3E-F0CABCDA432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E6DDDB-6365-461B-BA95-9EF4C3C535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7D027E-CAB9-4CF3-8E0C-80807D98E7E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0C637DA-5C6B-411D-B4BB-555A6CA97D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62FDFE-2933-496F-B2FF-F6E4ECB2FF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09DEF5-868F-4DC7-B4DB-535910278B0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AC709B-FA59-4E72-9B36-38F8E6AAC1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221F5-B34E-4EF8-91CB-463C9F7E1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F53C5-D2A5-45D6-A2F5-C35FCCA29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7D5272-90DA-4147-990A-A0D66858134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71421F-AE8C-4634-8DBD-8537AAD071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B4B4DA-EDF5-4684-851B-B92EEBE64C3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A3F5682-94AA-4303-B214-914A5398E53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0B3C4AC-4BD7-4004-A6CC-C1C0F602B72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B9DB66E-DF44-48FF-98B6-A2F10118DF0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03EFC65-D619-43E5-8F52-1A8F5386587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52D980E-9418-4E9B-8A75-2D4D223FD36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F11DF08-8BD6-4B5A-9BF8-273AEFF9D0D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31F6063-472F-42A2-935F-3D01D892093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166F3-8363-458A-A487-8867B6684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8727CA7-6F12-4543-8283-61CBC1A744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E1AA39-7294-4060-ACF6-48F674B2F0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738E4F-F848-4C4D-BAEF-D0FAA7951AA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0719911-C28A-4CDC-9012-9AFCFC8D6F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9A0EF1-AF7E-4CE6-A7EF-E78FDA9C268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BFDC8F2-C5E5-49FF-BA55-DE4018ED7BC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1377A73-3E16-4746-94AB-CE7FBFFC48C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61314AB-6712-47E6-8107-3F4324D98E0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CA53F75-61FB-47A1-BAA5-7F9781E3E1E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DF5AFD7-5065-463E-9BF9-FDD426CD66C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8C5B4-E06F-4FE9-9017-806A12C62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6473F9C-2142-4241-9984-BA0524601B2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3FA97CC-6353-494B-9676-4367C234D07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2BFE0BF-110C-41CD-ADAE-0C18405C06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A5AE6C-AEAD-49CD-9C6C-8ACFD18F54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EA9D603-223F-4FE0-80C2-EC19CBB141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F0990A-9A92-44BD-9674-54ABA36FE4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727C3A4-D4FA-4B82-999F-05E63A9E5ED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E95C754-662D-49DE-92A2-2868CF1F89F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907A3CD-463A-4768-B325-6F09625504E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13090C4-D93F-40EB-BEF6-B9C4B30430B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93B30-F1B2-428E-9C5F-9393D02BA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3778D3E-5499-4F91-A4A4-1934C410D4E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6ED6AA1-49EE-4687-93D1-74C0C78F649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5149CA2-24BD-4FEE-80A0-7E4E2668046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0B4E657-5C22-45DD-9914-831E998346D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531244D-FF3C-4BF1-A004-ED8E3A0C678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47D4DBE-AF7B-4EE9-8BE6-626BC4250A1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DCFC222-554A-4D09-BF11-917422D61A9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A0CF061-52D8-44F1-967F-760DE87BCE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36BDA21-BE4A-4C4F-A812-735948B9E8A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BB58A94-1719-46EA-ACA7-C40EB43D6D3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7AAF5-126E-447B-BAB9-322600109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BB8AFC6-D107-4D28-98BA-F0CACC8E1E5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CF626BA-2507-4A9F-A273-CB1A7BAA40F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2B1A974-2691-482E-8CFB-6CBB3558EAE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B6C3455-F5F2-4F23-9B46-24018CCAA82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36A6E92-49EE-4838-8577-DC522CBFA27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489E10F-CFE1-4C05-8ECA-C90577BB4C1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90F2C17-A2BD-4175-982C-381D60CEBDF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346D276-3C81-4120-A98F-1AEC9608CEF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3680437-2F19-467E-BCB0-27F96F2543B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E63556-C0B0-4DB6-ABC5-8A739D4C82D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2958E4-BB03-4E4A-9A14-60A6434F9E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4D50E1E-713F-455D-8AAA-A7DFB2B821C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0906596-31B2-4EC3-A08D-D0DECAE6C60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0294F03-BAAC-41A6-AE80-AF716FADCB9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C6C75C5-F348-4520-AA64-2D190AC5472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CE0CADB-5570-4651-8BA8-766111C300D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78DFDE5-28FE-4EEA-AAE2-A0654BD9D7C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3FAAECB-78B4-4763-96CA-DA4F39BD70B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11920B4-9DCB-44DC-A39C-F4FA66C05F3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521CCC2-13C7-4D12-B1BD-FE29BDFAD97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74673E4-AED1-46B8-862E-B04073981C0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FD74C-4BEB-4E30-AF41-9F7CD1DD7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13CAB1F-0ACC-42B0-88EB-1375F612A11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A91633E-F6BD-4471-A6F4-64FE70C9564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A7D997D-2464-42AB-85EC-4B55235A2DF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4594DD4-3E9B-4B55-8BB3-DB5F031591B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1F0D879-8CEC-4278-820D-4AD4944BB7E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15F27BB-1507-4EDA-AC0B-89B11DE7A59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984D384-405D-4688-85AB-FEBA18CC624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24FDC12-2224-4F03-A9BD-9DB79A42F08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24A208D-BF90-4EE1-B585-2630E4ADFAD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FC737EE-F0E5-4DE9-A421-3BF335010D1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0F08E-DA87-4B03-8EFA-08CB5CC25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D082975-24FD-4D0F-9F52-9F3D9679458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FA63150-3637-4C30-BAA2-D7DD2E65D91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F93F745-99FE-4F22-8DB4-D3C5D53CA0D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460574F-876B-4CED-AC4E-CDCCE156411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F870B70-9663-40AF-9CAE-1B2BCD2825C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1C8114B-FC0D-4DB8-86D1-44CD56D5A78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A3B39AC-E08C-491E-949E-CDCA81D3C1C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187361B-B866-40F0-A3B6-810AB0E1D97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F659339-F79A-4CEC-BBB3-85183545B38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B35E9A1-7EC7-4102-8A2F-65AF2947F0D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8DA8DB-EABE-4902-B6A2-17B44ABA8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4A67E65-E75A-4042-9460-84C70492F74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F54F632-D8A3-4212-AD1F-D089E2035C9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B14A84D-0BBB-4889-A2EA-EA12D45C7C1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6262EC-DC0E-4057-A317-77D4A807DC0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08F1E5-FB52-47C5-BE17-DF2630F9969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6714E9-75AF-459E-AA98-912168DCE54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4EED8D3-403F-4F4A-A766-965EA750173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C090A76-569B-4279-A8C1-DAF234AD1EE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1C67E80-EA2D-4584-8D51-2F66D5DFF08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2E64C03-DD22-4E97-998A-9ACB5D73D32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80121-346C-43D5-82CB-EE0B04FC52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F33A6F2-A38C-4085-873B-97E9EEF3E3E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E8F9C81-C95B-4F2C-AA21-C4C7ACFAC7C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DC9F310-153D-49D0-BEEA-0A2B6F70BB1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CE8123A-F17E-43C1-A192-4BC383E50DB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7746D40-8089-433B-B69B-CB949C28EE7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D3B7D27-76A1-4354-96E8-F558EF44576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057BB54-CFDF-4136-AE9D-D151230160B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06029A1-F6F1-437B-9C3D-C0402F46D4A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1706AC8-14AD-48F2-9BC1-2B2B60A2878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B95B21E-F1CE-4A98-A5F6-9F3AC4BC1B2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8D368-83DD-491C-BA69-55C466017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68162-CD17-4C10-A755-D0B4B60347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95CE373-6EEA-48F7-9429-64D97C1C2EC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773E351-DC75-42C9-84B1-0EB3014433F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F7A33AB-E266-45C7-B6A6-C6D4AC5BF0D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6B55C30-BC9E-4AE3-8B50-063DB281C8D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A296035-0A22-4710-B267-BD8BDE6ED93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CF2AC7D-B2E8-4C39-ABE6-226B90166C8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AF25CDE-6395-4F93-988C-2136B2A7C75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9B0F65F-A383-45BE-A3D6-96F2637B9F6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DA986B4-F2D1-4E3B-90EB-41D3BA96E51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9608346-289D-48F8-A1B5-354003FAD07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1A888-65BC-438C-A188-0897AC776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AE132EB-4187-4F1B-80E0-65767345B63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A9DA324-E7D0-4F9F-8118-9D4D07F7152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63FDE93-AE10-4DD0-88F7-E8170FE5A05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EA2A0A1-8E05-437F-8F8D-759247D40A6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3D4880C-3242-46A7-AE9D-8FE22C28950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353D9C4-B2B5-4294-AAC2-03B8F196993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FD30724-F30B-4627-A8D1-AF217C09DA2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DA38264-0A0B-46EA-A489-D97A7AEE93A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8E1DECA-392E-4614-9864-B0A52D0A3DD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2768C9E-766C-422A-B122-A2B4200D91E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A787D-3BC9-41EF-8B59-E03613086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80C58DD-6305-423E-A466-E0DF3656B13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C58AC69-3F22-4D2D-BFF1-C0DD659D21A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429DAF5-F2D5-468F-AFFE-0E79A2A7E06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94324C7-4FAC-444C-9149-4D5C9024D15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9A75FCC-0E39-49CE-8874-909A03748A8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1B6287F-0014-483A-BEA3-C895C6B8EF9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6E5F8EE-4F2F-44AD-8342-A498C40AEF2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A5F36E3-4B99-4790-B4D3-BFC6BAEFF24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8F85053-74AE-4962-AC46-50DC81AEEA8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3B32E17-CE87-4A79-99C6-900DB4EB059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02FBD-0660-4ACF-B719-44493434B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EEEDE54-A8B5-4583-8A16-CD725B8D792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8EC63DD-EAA3-4C7C-9F97-1B237A7CEE1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BF791AE-D3B7-4CB6-9FF4-1DC3DADAB97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5D67F07-894D-47D6-8AC6-00CC6A622A0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3EDEFB6-76F9-4F3C-96B9-43849583262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8CC43BA-59AA-4644-97D2-0AD959AAF43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3B1AC72-3BAC-409D-ABF6-428489C6AF5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471E6FD-B5DC-4EF7-AE4F-9C60DA0E84B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5A6E0BD-7103-4BBA-B716-8C9680651DC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0778D46-765C-4422-B40D-8C375AF12A9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310D94-F807-41FD-8C30-B298979F9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49ECBD1-A2C8-4E20-8A08-C2649C1E402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080C085-06EB-43F1-97C4-2D6A754DB48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4C8542C-9D6A-4631-88D4-0B156862027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7E02393-AF1F-4DF5-8A11-AC6BAD4FB3F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183E57B-A6D0-4389-9B24-D1F1E3E3982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47C086D-92BD-4BC3-BF93-B1891521674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A229E6E-CD16-4DFF-B484-69D7F29B9D0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B8583E5-4FC5-47C0-8368-6D2D0EB87E1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15DA6D6-29E8-40CE-A096-955A673EFBD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20C4CA6-EAC5-4853-8FEF-A324A075B11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7F78F3-59F9-45EC-A71B-04AFD68F6D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9283EC8-A508-48C1-9977-CDDC32FF0F6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302BAB8-7F00-41EE-B78A-A730842C76E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63475CF-2FF2-489C-9BC1-C401E74685E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DE65C91-E996-4ABB-BB4B-82F0BE35CE9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B638963-8727-424B-BB33-1BA35AD69D5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595FF93-C664-4A22-B1BA-6F0DA08C656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C85E2A0-396C-4B5B-A0E2-5ACCBBD085E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ECF5973-8E8C-4C14-9D95-77A8FF09D91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86B8F47-3C8B-40CF-A107-F3784585821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F54203A-9230-4FDC-B3F1-240A30258AC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E98A9C-7474-44E2-A8C7-1FB9E7153D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1C97383-DB56-481F-B321-53A734479A63}"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D1AD40-93C3-4E83-8327-A8A40782F8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2B9B4-6170-43CA-8A90-E84A5B52A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7F09E-B496-4E36-9C31-76DC3AD80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442A4-1D87-4706-9AA9-A1276261D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48F36-A615-49E3-BF79-F5F8935F9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36C7E5-B569-4686-9E5D-ACEC8EC23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E8396-0717-4C11-BDEF-ED4F6D02D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9F429-B9B3-49C1-A5B7-F8D816599E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848BC-9CE3-477C-ACB4-9520AD3DC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3E4CA-9737-4646-998B-0E440FB44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14517D-2861-41BE-9E03-0AE16E2F3F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00E854-A265-4FE2-AEF5-6DC367CE6C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CDF443-A5F9-4CBF-AABF-F8E4367A77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dt" idx="10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dt" idx="110"/>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D1C6B3-F735-4465-A19B-1AE2D25B8B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dt" idx="110"/>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dt" idx="110"/>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dt" idx="11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A4522-16E6-452E-9CBB-A8CED77D2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5247B-F253-4843-92F6-BD993691C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dt" idx="11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dt" idx="11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dt" idx="11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E05ED-90CC-4D37-A033-6E560E9F9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dt" idx="11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dt" idx="11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dt" idx="11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7BDA35-0226-4003-BF2D-B3EDAF370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dt" idx="11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dt" idx="11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dt" idx="11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D97064-5353-4179-8F6A-F64B56E41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dt" idx="118"/>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dt" idx="118"/>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dt" idx="118"/>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dt" idx="118"/>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dt" idx="118"/>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dt" idx="118"/>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dt" idx="11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8FBB90-F493-4BC3-9F03-AC08D5D08E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dt" idx="118"/>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dt" idx="120"/>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dt" idx="120"/>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dt" idx="120"/>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dt" idx="120"/>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dt" idx="120"/>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dt" idx="120"/>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0F48D-A486-4C8A-A2E2-3B1806B23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dt" idx="120"/>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dt" idx="120"/>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dt" idx="120"/>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dt" idx="122"/>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dt" idx="122"/>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dt" idx="122"/>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dt" idx="122"/>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dt" idx="122"/>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dt" idx="122"/>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6B3E8E-707E-4EF8-92B2-B1A705FCB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dt" idx="122"/>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dt" idx="122"/>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dt" idx="122"/>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dt" idx="124"/>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dt" idx="124"/>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dt" idx="124"/>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dt" idx="124"/>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dt" idx="12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73FDC-E56F-496F-BEF2-762321E06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dt" idx="124"/>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dt" idx="124"/>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dt" idx="124"/>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dt" idx="124"/>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dt" idx="12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dt" idx="12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dt" idx="12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40CF02-8D5E-44DD-BFEB-419564D8DB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dt" idx="12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dt" idx="12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dt" idx="12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dt" idx="12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dt" idx="12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dt" idx="12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0CF060-CAAF-4532-84A9-DCBC95E616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A64DF-38B2-4754-82EC-17195B1AC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362D37-3213-45BF-8FB5-0B529123C7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BA7BF2-78E7-4711-8B8B-3EC5FBF9BA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5B0454-E1DC-4C0E-83FE-B67A83BABF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9EEE6-8D2A-4CCB-9D79-046EDFFCB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8209C1-5E7D-4F3F-86C8-AA4856A054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D78177-827D-4EFA-9FA9-695A377E4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93F19A-24E3-4E6D-AF99-2EB5114C21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46DCF-225F-4806-91BD-D22A424A7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ADBF5-3D92-446F-9711-E772D410C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E1D767-13B6-44B2-97B2-2E64068004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B775-C67C-4D87-B2FB-9DD68B814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0CC941-46DE-4D89-9800-92A9D672A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9401DA-68FD-4FC3-9E1A-0CDF8733C7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457EFD-5936-4039-91CD-C868BCD016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C5CF58-0A41-41BB-B033-75AB40A255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69FC53-3CB6-4BB5-9A8F-12BB7F23E3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572E6-585E-43EF-996B-597AB845AA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F78F07-450F-440B-B9AD-18F0E1B58A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53F82-B093-4F48-B1CD-37A40FC95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9AA8E2-781D-45E3-A97B-A2251860D1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274DE-271F-4AE6-B1D9-69BC12983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04108-23D1-4889-A134-522E42A64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A0D65-BB41-468F-8438-B01665F9F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4CA55C-D4B0-4A40-8166-8CE488E33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7010C0-00F7-4EE7-9562-5B8E7E0C5C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10F3F6-49BB-431C-B6DA-DF68860F87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82B3D5-D364-4E87-8C38-80E343B8E3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385020-2683-45F8-98E3-0E4DE9F6B2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F6E87-9915-4524-9F1A-D8B57B5AD4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EF5821-A195-455B-9825-5924471DDF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A64AE-89EA-4752-A0D1-C73B268DC9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284D71-6FD0-4999-9CC6-57304D060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AB63-0D35-4D2A-9256-FD8DB9386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68A4B7-7FCF-48DA-A15D-63086BCB7A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A2CA7-B781-473F-BF27-65CD2E696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0D463-4E89-48C6-8ECF-52DDC446F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4D049-8980-4A11-8BA4-E76E92CC1F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8DC362-3418-469E-9C44-47136860CF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880A49-1151-481F-82AE-C955B8060E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886AD9-3D4B-4A0A-A556-A55D7F358A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A38A0C-8457-4DFB-98EC-FA2C72FBD0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B6DE3B-3721-4CD2-B6D4-6932BC6806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D27F96-D27C-4428-952F-E38AB7C7DE7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CD02-5CF1-42A1-9395-9FEB8633A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DE3D-D1CE-4F68-A732-1A68096C6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8514-15DB-45AC-A631-1B29F1C87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94C7-AA0C-431B-9BC1-4888E8042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F73A-424A-4BCF-B720-D538C2D5D5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1552-B46A-4EE2-9479-73091F5A1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2BEE-5C59-4EEB-A696-580D782BF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A3FA-B798-48ED-A027-5E90EB3CC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F3ED-211F-4F81-B5F5-898A2ABAF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6069-663B-468F-BDB7-E8295487D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939E-45C3-4888-B189-2DB01D353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23D2-0E4D-4A69-8A04-CC920EB3E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8CCE-9C02-48A2-BE38-685E03BA9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9EA9-4D9F-4AD3-B63C-B3A83434F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3889-EA20-4480-AEC6-D022009C6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1719-CA3A-4755-8826-656BD3728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6DB6-3AC3-47B2-BD77-B07DA9354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4B19-1D72-4159-ABE8-DAF6BD855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0278-4ABE-486F-ABE0-B6FCF907D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AAEC-0BC1-44CB-B9AF-1EED79DA5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4D40-2131-441F-890C-B1EEB6FB0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8C85-AFC6-4477-BAAC-D922DBA94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3925-0F5A-4438-83E0-1C4D2F74B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9"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1C07-D210-4218-B9DF-BDB88F1D6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2" name="Rectangle 7"/>
          <p:cNvSpPr/>
          <p:nvPr/>
        </p:nvSpPr>
        <p:spPr>
          <a:xfrm>
            <a:off x="6248520" y="665172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2"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2" name="PlaceHolder 3"/>
          <p:cNvSpPr>
            <a:spLocks noGrp="1"/>
          </p:cNvSpPr>
          <p:nvPr>
            <p:ph type="ftr" idx="9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2"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3"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4"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5"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6"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7"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8"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6021-BC05-4B38-B567-72BF5D1AB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9" name="PlaceHolder 3"/>
          <p:cNvSpPr>
            <a:spLocks noGrp="1"/>
          </p:cNvSpPr>
          <p:nvPr>
            <p:ph type="dt" idx="10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PlaceHolder 4"/>
          <p:cNvSpPr>
            <a:spLocks noGrp="1"/>
          </p:cNvSpPr>
          <p:nvPr>
            <p:ph type="ftr" idx="10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0"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1"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2" name="PlaceHolder 3"/>
          <p:cNvSpPr>
            <a:spLocks noGrp="1"/>
          </p:cNvSpPr>
          <p:nvPr>
            <p:ph type="dt" idx="1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PlaceHolder 4"/>
          <p:cNvSpPr>
            <a:spLocks noGrp="1"/>
          </p:cNvSpPr>
          <p:nvPr>
            <p:ph type="ftr" idx="1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3"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4" name="PlaceHolder 3"/>
          <p:cNvSpPr>
            <a:spLocks noGrp="1"/>
          </p:cNvSpPr>
          <p:nvPr>
            <p:ph type="dt" idx="1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PlaceHolder 4"/>
          <p:cNvSpPr>
            <a:spLocks noGrp="1"/>
          </p:cNvSpPr>
          <p:nvPr>
            <p:ph type="ftr" idx="1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5" name="PlaceHolder 3"/>
          <p:cNvSpPr>
            <a:spLocks noGrp="1"/>
          </p:cNvSpPr>
          <p:nvPr>
            <p:ph type="dt" idx="1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PlaceHolder 4"/>
          <p:cNvSpPr>
            <a:spLocks noGrp="1"/>
          </p:cNvSpPr>
          <p:nvPr>
            <p:ph type="ftr" idx="1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6" name="PlaceHolder 3"/>
          <p:cNvSpPr>
            <a:spLocks noGrp="1"/>
          </p:cNvSpPr>
          <p:nvPr>
            <p:ph type="dt" idx="1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7" name="PlaceHolder 3"/>
          <p:cNvSpPr>
            <a:spLocks noGrp="1"/>
          </p:cNvSpPr>
          <p:nvPr>
            <p:ph type="dt" idx="1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PlaceHolder 4"/>
          <p:cNvSpPr>
            <a:spLocks noGrp="1"/>
          </p:cNvSpPr>
          <p:nvPr>
            <p:ph type="ftr" idx="1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Rectangle 7"/>
          <p:cNvSpPr/>
          <p:nvPr/>
        </p:nvSpPr>
        <p:spPr>
          <a:xfrm>
            <a:off x="6248520" y="665172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08" name="PlaceHolder 3"/>
          <p:cNvSpPr>
            <a:spLocks noGrp="1"/>
          </p:cNvSpPr>
          <p:nvPr>
            <p:ph type="dt" idx="1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PlaceHolder 4"/>
          <p:cNvSpPr>
            <a:spLocks noGrp="1"/>
          </p:cNvSpPr>
          <p:nvPr>
            <p:ph type="ftr" idx="1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1859-CCAF-48A3-9157-AD7A67671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03F2-FA8E-4CE0-99CF-3BE2CC3A9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FB5A-893F-444E-8D71-F5B1654EA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3155-D252-407B-AD4B-ABDCD8730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E78B-9E38-400A-BDB4-9500ED707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3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3" name="Text Box 6"/>
          <p:cNvSpPr/>
          <p:nvPr/>
        </p:nvSpPr>
        <p:spPr>
          <a:xfrm>
            <a:off x="0" y="2093760"/>
            <a:ext cx="91440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Informative Speech </a:t>
            </a:r>
            <a:br>
              <a:rPr sz="4800"/>
            </a:br>
            <a:r>
              <a:rPr b="1" lang="en-US" sz="2800" spc="-1" strike="noStrike">
                <a:solidFill>
                  <a:srgbClr val="000000"/>
                </a:solidFill>
                <a:latin typeface="Verdana"/>
              </a:rPr>
              <a:t>- Your Favourite Designer / Artist</a:t>
            </a:r>
            <a:endParaRPr b="0" lang="en-US" sz="2800" spc="-1" strike="noStrike">
              <a:solidFill>
                <a:srgbClr val="000000"/>
              </a:solidFill>
              <a:latin typeface="Arial"/>
            </a:endParaRPr>
          </a:p>
        </p:txBody>
      </p:sp>
      <p:sp>
        <p:nvSpPr>
          <p:cNvPr id="2054"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6" name=""/>
          <p:cNvSpPr txBox="1"/>
          <p:nvPr/>
        </p:nvSpPr>
        <p:spPr>
          <a:xfrm>
            <a:off x="457200" y="1760040"/>
            <a:ext cx="8229600" cy="4526280"/>
          </a:xfrm>
          <a:prstGeom prst="rect">
            <a:avLst/>
          </a:prstGeom>
          <a:noFill/>
          <a:ln w="0">
            <a:noFill/>
          </a:ln>
        </p:spPr>
        <p:txBody>
          <a:bodyPr anchor="t">
            <a:normAutofit fontScale="94000"/>
          </a:bodyPr>
          <a:p>
            <a:pPr marL="322200" indent="-322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xpository speech</a:t>
            </a:r>
            <a:r>
              <a:rPr b="0" lang="en-US" sz="4000" spc="-1" strike="noStrike">
                <a:solidFill>
                  <a:srgbClr val="000000"/>
                </a:solidFill>
                <a:latin typeface="Arial"/>
              </a:rPr>
              <a:t>: Provides carefully researched, in-depth knowledge about a complex topic.</a:t>
            </a:r>
            <a:endParaRPr b="0" lang="en-US" sz="40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ocial, religious, or ethical issues</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events and forces</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principle, or law</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e works</a:t>
            </a:r>
            <a:endParaRPr b="0" lang="en-US" sz="3200" spc="-1" strike="noStrike">
              <a:solidFill>
                <a:srgbClr val="000000"/>
              </a:solidFill>
              <a:latin typeface="Arial"/>
            </a:endParaRPr>
          </a:p>
        </p:txBody>
      </p:sp>
      <p:sp>
        <p:nvSpPr>
          <p:cNvPr id="207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4</a:t>
            </a:r>
            <a:endParaRPr b="0" lang="en-US" sz="1600" spc="-1" strike="noStrike">
              <a:solidFill>
                <a:srgbClr val="000000"/>
              </a:solidFill>
              <a:latin typeface="Arial"/>
            </a:endParaRPr>
          </a:p>
        </p:txBody>
      </p:sp>
      <p:sp>
        <p:nvSpPr>
          <p:cNvPr id="2078"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Informative Frame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2056" name="PlaceHolder 2"/>
          <p:cNvSpPr>
            <a:spLocks noGrp="1"/>
          </p:cNvSpPr>
          <p:nvPr>
            <p:ph type="subTitle"/>
          </p:nvPr>
        </p:nvSpPr>
        <p:spPr>
          <a:xfrm>
            <a:off x="595440" y="1668600"/>
            <a:ext cx="7967520" cy="4906800"/>
          </a:xfrm>
          <a:prstGeom prst="rect">
            <a:avLst/>
          </a:prstGeom>
          <a:noFill/>
          <a:ln w="0">
            <a:noFill/>
          </a:ln>
        </p:spPr>
        <p:txBody>
          <a:bodyPr anchor="t">
            <a:noAutofit/>
          </a:bodyPr>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2-1</a:t>
            </a:r>
            <a:r>
              <a:rPr b="0" lang="en-US" sz="2800" spc="-1" strike="noStrike">
                <a:solidFill>
                  <a:srgbClr val="000000"/>
                </a:solidFill>
                <a:latin typeface="Arial"/>
              </a:rPr>
              <a:t>  Explain the characteristics of informative speeches.</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2-2</a:t>
            </a:r>
            <a:r>
              <a:rPr b="0" lang="en-US" sz="2800" spc="-1" strike="noStrike">
                <a:solidFill>
                  <a:srgbClr val="000000"/>
                </a:solidFill>
                <a:latin typeface="Arial"/>
              </a:rPr>
              <a:t>  Describe the major methods of informing.</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2-3</a:t>
            </a:r>
            <a:r>
              <a:rPr b="0" lang="en-US" sz="2800" spc="-1" strike="noStrike">
                <a:solidFill>
                  <a:srgbClr val="000000"/>
                </a:solidFill>
                <a:latin typeface="Arial"/>
              </a:rPr>
              <a:t>  Prepare an informative process speech.</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2-4</a:t>
            </a:r>
            <a:r>
              <a:rPr b="0" lang="en-US" sz="2800" spc="-1" strike="noStrike">
                <a:solidFill>
                  <a:srgbClr val="000000"/>
                </a:solidFill>
                <a:latin typeface="Arial"/>
              </a:rPr>
              <a:t>  Prepare an informative expository spe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7" name=""/>
          <p:cNvSpPr txBox="1"/>
          <p:nvPr/>
        </p:nvSpPr>
        <p:spPr>
          <a:xfrm>
            <a:off x="457200" y="17748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
            </a:r>
            <a:r>
              <a:rPr b="0" i="1" lang="en-US" sz="3600" spc="-1" strike="noStrike">
                <a:solidFill>
                  <a:srgbClr val="000000"/>
                </a:solidFill>
                <a:latin typeface="Arial"/>
              </a:rPr>
              <a:t>informative speech</a:t>
            </a:r>
            <a:r>
              <a:rPr b="0" lang="en-US" sz="3600" spc="-1" strike="noStrike">
                <a:solidFill>
                  <a:srgbClr val="000000"/>
                </a:solidFill>
                <a:latin typeface="Arial"/>
              </a:rPr>
              <a:t> is one whose goal is to explain or describe facts, truths, and principles in a way that stimulates interest, facilitates understanding, and increases the likelihood of remembering.</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other words, informative speeches are designed to educate audiences.</a:t>
            </a:r>
            <a:endParaRPr b="0" lang="en-US" sz="3600" spc="-1" strike="noStrike">
              <a:solidFill>
                <a:srgbClr val="000000"/>
              </a:solidFill>
              <a:latin typeface="Arial"/>
            </a:endParaRPr>
          </a:p>
        </p:txBody>
      </p:sp>
      <p:sp>
        <p:nvSpPr>
          <p:cNvPr id="205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n Informative Spee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9" name=""/>
          <p:cNvSpPr txBox="1"/>
          <p:nvPr/>
        </p:nvSpPr>
        <p:spPr>
          <a:xfrm>
            <a:off x="457200" y="171612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ve speeches are:</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ly stimulating</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pth</a:t>
            </a:r>
            <a:r>
              <a:rPr b="0" lang="en-US" sz="2400" spc="-1" strike="noStrike">
                <a:solidFill>
                  <a:srgbClr val="000000"/>
                </a:solidFill>
                <a:latin typeface="Arial"/>
              </a:rPr>
              <a:t>: Goes beyond people’s general knowledge of the top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eadth</a:t>
            </a:r>
            <a:r>
              <a:rPr b="0" lang="en-US" sz="2400" spc="-1" strike="noStrike">
                <a:solidFill>
                  <a:srgbClr val="000000"/>
                </a:solidFill>
                <a:latin typeface="Arial"/>
              </a:rPr>
              <a:t>: Examines how the topic relates to associated topics</a:t>
            </a:r>
            <a:endParaRPr b="0" lang="en-US" sz="24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e</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able</a:t>
            </a:r>
            <a:endParaRPr b="0" lang="en-US" sz="3200" spc="-1" strike="noStrike">
              <a:solidFill>
                <a:srgbClr val="000000"/>
              </a:solidFill>
              <a:latin typeface="Arial"/>
            </a:endParaRPr>
          </a:p>
        </p:txBody>
      </p:sp>
      <p:sp>
        <p:nvSpPr>
          <p:cNvPr id="206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1</a:t>
            </a:r>
            <a:endParaRPr b="0" lang="en-US" sz="1600" spc="-1" strike="noStrike">
              <a:solidFill>
                <a:srgbClr val="000000"/>
              </a:solidFill>
              <a:latin typeface="Arial"/>
            </a:endParaRPr>
          </a:p>
        </p:txBody>
      </p:sp>
      <p:sp>
        <p:nvSpPr>
          <p:cNvPr id="2061"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a:t>
            </a:r>
            <a:br>
              <a:rPr sz="3600"/>
            </a:br>
            <a:r>
              <a:rPr b="1" lang="en-US" sz="3600" spc="-1" strike="noStrike">
                <a:solidFill>
                  <a:srgbClr val="000000"/>
                </a:solidFill>
                <a:latin typeface="Arial"/>
              </a:rPr>
              <a:t>Informative Speech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2"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d0d0d"/>
                </a:solidFill>
                <a:latin typeface="Arial"/>
              </a:rPr>
              <a:t>Techniques for Making Informative Speech Material Memorable</a:t>
            </a:r>
            <a:endParaRPr b="0" lang="en-US" sz="3700" spc="-1" strike="noStrike">
              <a:solidFill>
                <a:srgbClr val="000000"/>
              </a:solidFill>
              <a:latin typeface="Arial"/>
            </a:endParaRPr>
          </a:p>
        </p:txBody>
      </p:sp>
      <p:pic>
        <p:nvPicPr>
          <p:cNvPr id="2063" name="Picture 6" descr=""/>
          <p:cNvPicPr/>
          <p:nvPr/>
        </p:nvPicPr>
        <p:blipFill>
          <a:blip r:embed="rId2"/>
          <a:stretch/>
        </p:blipFill>
        <p:spPr>
          <a:xfrm>
            <a:off x="0" y="2314440"/>
            <a:ext cx="9144000" cy="444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4" name=""/>
          <p:cNvSpPr txBox="1"/>
          <p:nvPr/>
        </p:nvSpPr>
        <p:spPr>
          <a:xfrm>
            <a:off x="457200" y="17748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appeal to the </a:t>
            </a:r>
            <a:r>
              <a:rPr b="0" i="1" lang="en-US" sz="4000" spc="-1" strike="noStrike">
                <a:solidFill>
                  <a:srgbClr val="000000"/>
                </a:solidFill>
                <a:latin typeface="Arial"/>
              </a:rPr>
              <a:t>feeling</a:t>
            </a:r>
            <a:r>
              <a:rPr b="0" lang="en-US" sz="4000" spc="-1" strike="noStrike">
                <a:solidFill>
                  <a:srgbClr val="000000"/>
                </a:solidFill>
                <a:latin typeface="Arial"/>
              </a:rPr>
              <a:t> </a:t>
            </a:r>
            <a:r>
              <a:rPr b="0" i="1" lang="en-US" sz="4000" spc="-1" strike="noStrike">
                <a:solidFill>
                  <a:srgbClr val="000000"/>
                </a:solidFill>
                <a:latin typeface="Arial"/>
              </a:rPr>
              <a:t>dimension</a:t>
            </a:r>
            <a:r>
              <a:rPr b="0" lang="en-US" sz="4000" spc="-1" strike="noStrike">
                <a:solidFill>
                  <a:srgbClr val="000000"/>
                </a:solidFill>
                <a:latin typeface="Arial"/>
              </a:rPr>
              <a:t>, use concrete, vivid images, stories, and exampl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appeal to the </a:t>
            </a:r>
            <a:r>
              <a:rPr b="0" i="1" lang="en-US" sz="4000" spc="-1" strike="noStrike">
                <a:solidFill>
                  <a:srgbClr val="000000"/>
                </a:solidFill>
                <a:latin typeface="Arial"/>
              </a:rPr>
              <a:t>watching</a:t>
            </a:r>
            <a:r>
              <a:rPr b="0" lang="en-US" sz="4000" spc="-1" strike="noStrike">
                <a:solidFill>
                  <a:srgbClr val="000000"/>
                </a:solidFill>
                <a:latin typeface="Arial"/>
              </a:rPr>
              <a:t> </a:t>
            </a:r>
            <a:r>
              <a:rPr b="0" i="1" lang="en-US" sz="4000" spc="-1" strike="noStrike">
                <a:solidFill>
                  <a:srgbClr val="000000"/>
                </a:solidFill>
                <a:latin typeface="Arial"/>
              </a:rPr>
              <a:t>dimension</a:t>
            </a:r>
            <a:r>
              <a:rPr b="0" lang="en-US" sz="4000" spc="-1" strike="noStrike">
                <a:solidFill>
                  <a:srgbClr val="000000"/>
                </a:solidFill>
                <a:latin typeface="Arial"/>
              </a:rPr>
              <a:t>, use visual aids and appropriate gestures and expressions.</a:t>
            </a:r>
            <a:endParaRPr b="0" lang="en-US" sz="4000" spc="-1" strike="noStrike">
              <a:solidFill>
                <a:srgbClr val="000000"/>
              </a:solidFill>
              <a:latin typeface="Arial"/>
            </a:endParaRPr>
          </a:p>
        </p:txBody>
      </p:sp>
      <p:sp>
        <p:nvSpPr>
          <p:cNvPr id="2065"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verse Learning Styles</a:t>
            </a:r>
            <a:endParaRPr b="0" lang="en-US" sz="4800" spc="-1" strike="noStrike">
              <a:solidFill>
                <a:srgbClr val="000000"/>
              </a:solidFill>
              <a:latin typeface="Arial"/>
            </a:endParaRPr>
          </a:p>
        </p:txBody>
      </p:sp>
      <p:sp>
        <p:nvSpPr>
          <p:cNvPr id="206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7" name=""/>
          <p:cNvSpPr txBox="1"/>
          <p:nvPr/>
        </p:nvSpPr>
        <p:spPr>
          <a:xfrm>
            <a:off x="457200" y="17748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appeal to the </a:t>
            </a:r>
            <a:r>
              <a:rPr b="0" i="1" lang="en-US" sz="4000" spc="-1" strike="noStrike">
                <a:solidFill>
                  <a:srgbClr val="000000"/>
                </a:solidFill>
                <a:latin typeface="Arial"/>
              </a:rPr>
              <a:t>thinking</a:t>
            </a:r>
            <a:r>
              <a:rPr b="0" lang="en-US" sz="4000" spc="-1" strike="noStrike">
                <a:solidFill>
                  <a:srgbClr val="000000"/>
                </a:solidFill>
                <a:latin typeface="Arial"/>
              </a:rPr>
              <a:t> </a:t>
            </a:r>
            <a:r>
              <a:rPr b="0" i="1" lang="en-US" sz="4000" spc="-1" strike="noStrike">
                <a:solidFill>
                  <a:srgbClr val="000000"/>
                </a:solidFill>
                <a:latin typeface="Arial"/>
              </a:rPr>
              <a:t>dimension</a:t>
            </a:r>
            <a:r>
              <a:rPr b="0" lang="en-US" sz="4000" spc="-1" strike="noStrike">
                <a:solidFill>
                  <a:srgbClr val="000000"/>
                </a:solidFill>
                <a:latin typeface="Arial"/>
              </a:rPr>
              <a:t>, use clear macrostructure and relevant dat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appeal to the </a:t>
            </a:r>
            <a:r>
              <a:rPr b="0" i="1" lang="en-US" sz="4000" spc="-1" strike="noStrike">
                <a:solidFill>
                  <a:srgbClr val="000000"/>
                </a:solidFill>
                <a:latin typeface="Arial"/>
              </a:rPr>
              <a:t>doing</a:t>
            </a:r>
            <a:r>
              <a:rPr b="0" lang="en-US" sz="4000" spc="-1" strike="noStrike">
                <a:solidFill>
                  <a:srgbClr val="000000"/>
                </a:solidFill>
                <a:latin typeface="Arial"/>
              </a:rPr>
              <a:t> </a:t>
            </a:r>
            <a:r>
              <a:rPr b="0" i="1" lang="en-US" sz="4000" spc="-1" strike="noStrike">
                <a:solidFill>
                  <a:srgbClr val="000000"/>
                </a:solidFill>
                <a:latin typeface="Arial"/>
              </a:rPr>
              <a:t>dimension</a:t>
            </a:r>
            <a:r>
              <a:rPr b="0" lang="en-US" sz="4000" spc="-1" strike="noStrike">
                <a:solidFill>
                  <a:srgbClr val="000000"/>
                </a:solidFill>
                <a:latin typeface="Arial"/>
              </a:rPr>
              <a:t>, use demonstrations and hands-on features.</a:t>
            </a:r>
            <a:endParaRPr b="0" lang="en-US" sz="4000" spc="-1" strike="noStrike">
              <a:solidFill>
                <a:srgbClr val="000000"/>
              </a:solidFill>
              <a:latin typeface="Arial"/>
            </a:endParaRPr>
          </a:p>
        </p:txBody>
      </p:sp>
      <p:sp>
        <p:nvSpPr>
          <p:cNvPr id="206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verse Learning Styles</a:t>
            </a:r>
            <a:endParaRPr b="0" lang="en-US" sz="4800" spc="-1" strike="noStrike">
              <a:solidFill>
                <a:srgbClr val="000000"/>
              </a:solidFill>
              <a:latin typeface="Arial"/>
            </a:endParaRPr>
          </a:p>
        </p:txBody>
      </p:sp>
      <p:sp>
        <p:nvSpPr>
          <p:cNvPr id="206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0" name=""/>
          <p:cNvSpPr txBox="1"/>
          <p:nvPr/>
        </p:nvSpPr>
        <p:spPr>
          <a:xfrm>
            <a:off x="457200" y="171612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and contrast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nstrating</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1"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thods of Informing</a:t>
            </a:r>
            <a:endParaRPr b="0" lang="en-US" sz="4800" spc="-1" strike="noStrike">
              <a:solidFill>
                <a:srgbClr val="000000"/>
              </a:solidFill>
              <a:latin typeface="Arial"/>
            </a:endParaRPr>
          </a:p>
        </p:txBody>
      </p:sp>
      <p:sp>
        <p:nvSpPr>
          <p:cNvPr id="207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3" name=""/>
          <p:cNvSpPr txBox="1"/>
          <p:nvPr/>
        </p:nvSpPr>
        <p:spPr>
          <a:xfrm>
            <a:off x="457200" y="1760040"/>
            <a:ext cx="8229600" cy="4526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rocess speech</a:t>
            </a:r>
            <a:r>
              <a:rPr b="0" lang="en-US" sz="4000" spc="-1" strike="noStrike">
                <a:solidFill>
                  <a:srgbClr val="000000"/>
                </a:solidFill>
                <a:latin typeface="Arial"/>
              </a:rPr>
              <a:t>: Demonstrates how something is done, made, or work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process speeches rely heavily on the demonstration method of informing.</a:t>
            </a:r>
            <a:endParaRPr b="0" lang="en-US" sz="4000" spc="-1" strike="noStrike">
              <a:solidFill>
                <a:srgbClr val="000000"/>
              </a:solidFill>
              <a:latin typeface="Arial"/>
            </a:endParaRPr>
          </a:p>
        </p:txBody>
      </p:sp>
      <p:sp>
        <p:nvSpPr>
          <p:cNvPr id="207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3</a:t>
            </a:r>
            <a:endParaRPr b="0" lang="en-US" sz="1600" spc="-1" strike="noStrike">
              <a:solidFill>
                <a:srgbClr val="000000"/>
              </a:solidFill>
              <a:latin typeface="Arial"/>
            </a:endParaRPr>
          </a:p>
        </p:txBody>
      </p:sp>
      <p:sp>
        <p:nvSpPr>
          <p:cNvPr id="2075"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Informative Frame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5-16T10:42:49Z</cp:lastPrinted>
  <dcterms:modified xsi:type="dcterms:W3CDTF">2016-05-16T10:48:43Z</dcterms:modified>
  <cp:revision>362</cp:revision>
  <dc:subject/>
  <dc:title>Chapter One</dc:title>
</cp:coreProperties>
</file>